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8BCD-FF91-422A-A24E-BBF86649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duction to ENERGY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evised August 4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organism has a habitat  where it lives and a niche which is its role or job in the eco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Have the students give examples of habitats and niches for different organism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s from The Goulds and from kudududu at WebPhot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sm is a single living th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pulation is the number of individuals of the same species in the same place at the same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y is all of the different populations living in a given area and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osystem is all of the communities (biotic) and all of the physical factors (abiotic) in an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system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sphere is all of the areas on earth where organisms l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88A-7D77-46BB-B409-2A7AEB4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778-58F9-4909-99D8-0ADC1F4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B0F-960B-4F8A-9538-E7688E3B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3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0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5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3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0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7A4-0EF2-478B-B61C-ED0D1D66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495D-994B-4616-B8FE-4052440C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F989-45D7-4244-BEBE-8A18223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920-2C1E-473C-BF16-AC918887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B44E-55DB-47C2-B351-DEDCAFB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CEA-8DE9-4ED5-A30D-79C4851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3348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3621-CCD8-4FAC-B22A-2F7032B6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6CF7-300D-4DEC-88B8-61DB257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95F-4FCF-4D1B-B3D7-DE47B1A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67A-AE7F-4DA7-B42D-1939521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895-9E2F-429F-8B69-EB53483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A2F-13FC-4A30-B744-CA380736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65AC-015E-4FB6-B5F3-4B96CA3D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34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0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5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34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0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9FD-EA94-4604-998B-C395E25A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0CB-6B4A-475A-BCA2-2D37A36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003-8289-47AB-9EF1-E2262A5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0FB-5F74-42D6-A73E-18D299A9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348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3F1-2F2C-4225-B352-E62BAA5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E47-13B2-4B4F-A22B-9EF1922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80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EAC-EF89-428C-B665-D52E91B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80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54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CBE-26C9-471D-9164-EAC647CF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0CB-0D9B-4C59-95D4-035C7408B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8516-79E6-48F9-8466-3F9EBC5D6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795240" algn="ctr">
              <a:spcBef>
                <a:spcPts val="9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193040" algn="ctr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59084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590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590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8280" y="1961640"/>
            <a:ext cx="7483680" cy="26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3300"/>
                </a:solidFill>
                <a:latin typeface="Arial Black"/>
              </a:rPr>
              <a:t>ECOLOGICAL RELATIONSHIPS</a:t>
            </a:r>
            <a:endParaRPr b="0" lang="en-US" sz="55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514600" y="546120"/>
            <a:ext cx="4800600" cy="1295280"/>
            <a:chOff x="2514600" y="546120"/>
            <a:chExt cx="4800600" cy="1295280"/>
          </a:xfrm>
        </p:grpSpPr>
        <p:sp>
          <p:nvSpPr>
            <p:cNvPr id="153" name=""/>
            <p:cNvSpPr/>
            <p:nvPr/>
          </p:nvSpPr>
          <p:spPr>
            <a:xfrm>
              <a:off x="2514600" y="546120"/>
              <a:ext cx="4800600" cy="12952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6880" y="622440"/>
              <a:ext cx="464832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lationships Between Organism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57400" y="2832120"/>
            <a:ext cx="2590920" cy="1143000"/>
            <a:chOff x="2057400" y="2832120"/>
            <a:chExt cx="2590920" cy="1143000"/>
          </a:xfrm>
        </p:grpSpPr>
        <p:sp>
          <p:nvSpPr>
            <p:cNvPr id="156" name=""/>
            <p:cNvSpPr/>
            <p:nvPr/>
          </p:nvSpPr>
          <p:spPr>
            <a:xfrm>
              <a:off x="2057400" y="2832120"/>
              <a:ext cx="2590920" cy="11430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3060720"/>
              <a:ext cx="20574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Symbiosi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3123720" y="1841400"/>
            <a:ext cx="2057400" cy="9907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52120" y="3975120"/>
            <a:ext cx="129564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8080" y="4889520"/>
            <a:ext cx="2133720" cy="914400"/>
            <a:chOff x="838080" y="4889520"/>
            <a:chExt cx="2133720" cy="914400"/>
          </a:xfrm>
        </p:grpSpPr>
        <p:sp>
          <p:nvSpPr>
            <p:cNvPr id="161" name=""/>
            <p:cNvSpPr/>
            <p:nvPr/>
          </p:nvSpPr>
          <p:spPr>
            <a:xfrm>
              <a:off x="838080" y="4889520"/>
              <a:ext cx="213372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50418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3300"/>
                  </a:solidFill>
                  <a:latin typeface="Times New Roman"/>
                </a:rPr>
                <a:t>parasitis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00400" y="4889520"/>
            <a:ext cx="2514600" cy="914400"/>
            <a:chOff x="3200400" y="4889520"/>
            <a:chExt cx="2514600" cy="914400"/>
          </a:xfrm>
        </p:grpSpPr>
        <p:sp>
          <p:nvSpPr>
            <p:cNvPr id="164" name=""/>
            <p:cNvSpPr/>
            <p:nvPr/>
          </p:nvSpPr>
          <p:spPr>
            <a:xfrm>
              <a:off x="3200400" y="4889520"/>
              <a:ext cx="251460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2680" y="5041800"/>
              <a:ext cx="21337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mutualism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29480" y="4902120"/>
            <a:ext cx="3124080" cy="914400"/>
            <a:chOff x="5829480" y="4902120"/>
            <a:chExt cx="3124080" cy="914400"/>
          </a:xfrm>
        </p:grpSpPr>
        <p:sp>
          <p:nvSpPr>
            <p:cNvPr id="167" name=""/>
            <p:cNvSpPr/>
            <p:nvPr/>
          </p:nvSpPr>
          <p:spPr>
            <a:xfrm>
              <a:off x="5829480" y="4902120"/>
              <a:ext cx="3124080" cy="91440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1760" y="5054400"/>
              <a:ext cx="29718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commensalism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3975120"/>
            <a:ext cx="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3975120"/>
            <a:ext cx="251460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222640"/>
            <a:ext cx="2133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wo organisms that live in close contact to each other for long periods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648320" y="2679840"/>
            <a:ext cx="1371600" cy="38088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81080" y="228600"/>
            <a:ext cx="4800600" cy="1295280"/>
            <a:chOff x="1981080" y="228600"/>
            <a:chExt cx="4800600" cy="1295280"/>
          </a:xfrm>
        </p:grpSpPr>
        <p:sp>
          <p:nvSpPr>
            <p:cNvPr id="174" name=""/>
            <p:cNvSpPr/>
            <p:nvPr/>
          </p:nvSpPr>
          <p:spPr>
            <a:xfrm>
              <a:off x="1981080" y="228600"/>
              <a:ext cx="4800600" cy="12952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304920"/>
              <a:ext cx="464796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Relationships Between Organism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6200" y="1523880"/>
            <a:ext cx="1523880" cy="1219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24280" y="2743200"/>
            <a:ext cx="3276720" cy="1066680"/>
            <a:chOff x="4724280" y="2743200"/>
            <a:chExt cx="3276720" cy="1066680"/>
          </a:xfrm>
        </p:grpSpPr>
        <p:sp>
          <p:nvSpPr>
            <p:cNvPr id="178" name=""/>
            <p:cNvSpPr/>
            <p:nvPr/>
          </p:nvSpPr>
          <p:spPr>
            <a:xfrm>
              <a:off x="4724280" y="2743200"/>
              <a:ext cx="327672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819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3300"/>
                  </a:solidFill>
                  <a:latin typeface="Times New Roman"/>
                </a:rPr>
                <a:t>Not Symbiosis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5105520"/>
            <a:ext cx="2514600" cy="1066680"/>
            <a:chOff x="2362320" y="5105520"/>
            <a:chExt cx="2514600" cy="1066680"/>
          </a:xfrm>
        </p:grpSpPr>
        <p:sp>
          <p:nvSpPr>
            <p:cNvPr id="181" name=""/>
            <p:cNvSpPr/>
            <p:nvPr/>
          </p:nvSpPr>
          <p:spPr>
            <a:xfrm>
              <a:off x="2362320" y="5105520"/>
              <a:ext cx="251460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334120"/>
              <a:ext cx="23623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663300"/>
                  </a:solidFill>
                  <a:latin typeface="Times New Roman"/>
                </a:rPr>
                <a:t>competition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67280" y="5029200"/>
            <a:ext cx="2438640" cy="1066680"/>
            <a:chOff x="5867280" y="5029200"/>
            <a:chExt cx="2438640" cy="1066680"/>
          </a:xfrm>
        </p:grpSpPr>
        <p:sp>
          <p:nvSpPr>
            <p:cNvPr id="184" name=""/>
            <p:cNvSpPr/>
            <p:nvPr/>
          </p:nvSpPr>
          <p:spPr>
            <a:xfrm>
              <a:off x="5867280" y="5029200"/>
              <a:ext cx="2438640" cy="106668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5257800"/>
              <a:ext cx="2133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predation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3809880" y="3809880"/>
            <a:ext cx="1828800" cy="129564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809880"/>
            <a:ext cx="1066680" cy="1219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3300"/>
                </a:solidFill>
                <a:latin typeface="Arial Black"/>
              </a:rPr>
              <a:t>Ecological Relationships Lab</a:t>
            </a:r>
            <a:endParaRPr b="0" lang="en-US" sz="45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  <a:ea typeface="Times New Roman"/>
              </a:rPr>
              <a:t>A lichen is a relationship between a fungus and an algae.  The fungus provides nutrients to the algae and the algae provides food for the fungus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  <a:ea typeface="Times New Roman"/>
              </a:rPr>
              <a:t>The algae gets nutrients (benefits) and the fungus gets food (benefits)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5040" y="1076040"/>
            <a:ext cx="7869240" cy="22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very organism has a 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habitat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 where it lives and a 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niche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which is its role or job in the ecosystem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2760" y="3639960"/>
            <a:ext cx="3981600" cy="2981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4960" y="2840040"/>
            <a:ext cx="372744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04920" y="1165320"/>
            <a:ext cx="537048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rganism is a single living thing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72240" y="965160"/>
            <a:ext cx="1836720" cy="2470320"/>
            <a:chOff x="6672240" y="965160"/>
            <a:chExt cx="1836720" cy="2470320"/>
          </a:xfrm>
        </p:grpSpPr>
        <p:sp>
          <p:nvSpPr>
            <p:cNvPr id="99" name=""/>
            <p:cNvSpPr/>
            <p:nvPr/>
          </p:nvSpPr>
          <p:spPr>
            <a:xfrm>
              <a:off x="6731280" y="2735280"/>
              <a:ext cx="1719000" cy="400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6672240" y="96516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13000" y="2717640"/>
            <a:ext cx="506412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116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2040" y="1015560"/>
            <a:ext cx="6262560" cy="21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Population is the number of individuals of the </a:t>
            </a:r>
            <a:r>
              <a:rPr b="0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same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species in the same place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140600" y="973080"/>
            <a:ext cx="1836720" cy="2470320"/>
            <a:chOff x="7140600" y="973080"/>
            <a:chExt cx="1836720" cy="2470320"/>
          </a:xfrm>
        </p:grpSpPr>
        <p:sp>
          <p:nvSpPr>
            <p:cNvPr id="105" name=""/>
            <p:cNvSpPr/>
            <p:nvPr/>
          </p:nvSpPr>
          <p:spPr>
            <a:xfrm>
              <a:off x="7219800" y="2333520"/>
              <a:ext cx="1700280" cy="409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140600" y="97308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60400" y="3422520"/>
            <a:ext cx="5796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24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5883120" cy="193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ommunity is all of the </a:t>
            </a:r>
            <a:r>
              <a:rPr b="0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different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populations living in a given area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93080" y="887400"/>
            <a:ext cx="1836720" cy="2470320"/>
            <a:chOff x="7093080" y="887400"/>
            <a:chExt cx="1836720" cy="2470320"/>
          </a:xfrm>
        </p:grpSpPr>
        <p:sp>
          <p:nvSpPr>
            <p:cNvPr id="111" name=""/>
            <p:cNvSpPr/>
            <p:nvPr/>
          </p:nvSpPr>
          <p:spPr>
            <a:xfrm>
              <a:off x="7177320" y="1805040"/>
              <a:ext cx="1700280" cy="409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093080" y="88740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1208160" y="2678040"/>
            <a:ext cx="6526080" cy="4065840"/>
            <a:chOff x="1208160" y="2678040"/>
            <a:chExt cx="6526080" cy="40658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384880" y="4981680"/>
              <a:ext cx="234936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5446800" y="2678040"/>
              <a:ext cx="16732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208160" y="2765520"/>
              <a:ext cx="275112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1795320" y="4981680"/>
              <a:ext cx="267840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3556080" y="3726000"/>
              <a:ext cx="2220840" cy="16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348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960" y="1031400"/>
            <a:ext cx="5972040" cy="24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Ecosystem is all of the communities (biotic) and all of the physical factors (abiotic) in an area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62840" y="982800"/>
            <a:ext cx="1836720" cy="2469960"/>
            <a:chOff x="7062840" y="982800"/>
            <a:chExt cx="1836720" cy="2469960"/>
          </a:xfrm>
        </p:grpSpPr>
        <p:sp>
          <p:nvSpPr>
            <p:cNvPr id="122" name=""/>
            <p:cNvSpPr/>
            <p:nvPr/>
          </p:nvSpPr>
          <p:spPr>
            <a:xfrm>
              <a:off x="7137720" y="1458720"/>
              <a:ext cx="1699920" cy="409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062840" y="982800"/>
              <a:ext cx="1836720" cy="24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0200" y="3654360"/>
            <a:ext cx="5599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348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system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30120" y="1209240"/>
            <a:ext cx="5197320" cy="19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Biosphere is all of the areas on earth where organisms live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54680" y="977760"/>
            <a:ext cx="1836720" cy="2470320"/>
            <a:chOff x="6754680" y="977760"/>
            <a:chExt cx="1836720" cy="2470320"/>
          </a:xfrm>
        </p:grpSpPr>
        <p:grpSp>
          <p:nvGrpSpPr>
            <p:cNvPr id="128" name=""/>
            <p:cNvGrpSpPr/>
            <p:nvPr/>
          </p:nvGrpSpPr>
          <p:grpSpPr>
            <a:xfrm>
              <a:off x="6834240" y="1019160"/>
              <a:ext cx="1700280" cy="382680"/>
              <a:chOff x="6834240" y="1019160"/>
              <a:chExt cx="1700280" cy="382680"/>
            </a:xfrm>
          </p:grpSpPr>
          <p:sp>
            <p:nvSpPr>
              <p:cNvPr id="129" name=""/>
              <p:cNvSpPr/>
              <p:nvPr/>
            </p:nvSpPr>
            <p:spPr>
              <a:xfrm>
                <a:off x="6834240" y="1087560"/>
                <a:ext cx="1700280" cy="3142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05840" y="1019160"/>
                <a:ext cx="70956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6754680" y="977760"/>
              <a:ext cx="1836720" cy="247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01680" y="3876840"/>
            <a:ext cx="5453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348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cological Relationshi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54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parasit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mutual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commensalism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predation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3300"/>
                </a:solidFill>
                <a:latin typeface="Arial"/>
              </a:rPr>
              <a:t>What is competition?</a:t>
            </a: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2120" y="343080"/>
          <a:ext cx="8381880" cy="46274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Organism 1</a:t>
                      </a:r>
                      <a:endParaRPr b="0" lang="en-US" sz="3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Organism 2</a:t>
                      </a:r>
                      <a:endParaRPr b="0" lang="en-US" sz="3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Parasitism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Mutualism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Commensalism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Pred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Competi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838080" y="5432400"/>
            <a:ext cx="8305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Key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+ (benefits)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- (harmed)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3300"/>
                </a:solidFill>
                <a:latin typeface="Times New Roman"/>
              </a:rPr>
              <a:t>0 (not affected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8480" y="1066680"/>
            <a:ext cx="3403440" cy="677880"/>
            <a:chOff x="4578480" y="1066680"/>
            <a:chExt cx="3403440" cy="677880"/>
          </a:xfrm>
        </p:grpSpPr>
        <p:sp>
          <p:nvSpPr>
            <p:cNvPr id="138" name=""/>
            <p:cNvSpPr/>
            <p:nvPr/>
          </p:nvSpPr>
          <p:spPr>
            <a:xfrm>
              <a:off x="4578480" y="119376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86560" y="106668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78480" y="1981080"/>
            <a:ext cx="3429000" cy="576360"/>
            <a:chOff x="4578480" y="1981080"/>
            <a:chExt cx="3429000" cy="576360"/>
          </a:xfrm>
        </p:grpSpPr>
        <p:sp>
          <p:nvSpPr>
            <p:cNvPr id="141" name=""/>
            <p:cNvSpPr/>
            <p:nvPr/>
          </p:nvSpPr>
          <p:spPr>
            <a:xfrm>
              <a:off x="4578480" y="198108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1360" y="200664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8480" y="2768760"/>
            <a:ext cx="3403440" cy="627480"/>
            <a:chOff x="4578480" y="2768760"/>
            <a:chExt cx="3403440" cy="627480"/>
          </a:xfrm>
        </p:grpSpPr>
        <p:sp>
          <p:nvSpPr>
            <p:cNvPr id="144" name=""/>
            <p:cNvSpPr/>
            <p:nvPr/>
          </p:nvSpPr>
          <p:spPr>
            <a:xfrm>
              <a:off x="4578480" y="279396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86560" y="276876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0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578480" y="3543480"/>
            <a:ext cx="3403440" cy="627480"/>
            <a:chOff x="4578480" y="3543480"/>
            <a:chExt cx="3403440" cy="627480"/>
          </a:xfrm>
        </p:grpSpPr>
        <p:sp>
          <p:nvSpPr>
            <p:cNvPr id="147" name=""/>
            <p:cNvSpPr/>
            <p:nvPr/>
          </p:nvSpPr>
          <p:spPr>
            <a:xfrm>
              <a:off x="4578480" y="3556080"/>
              <a:ext cx="5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33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6560" y="354348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03680" y="4280040"/>
            <a:ext cx="3378240" cy="665280"/>
            <a:chOff x="4603680" y="4280040"/>
            <a:chExt cx="3378240" cy="665280"/>
          </a:xfrm>
        </p:grpSpPr>
        <p:sp>
          <p:nvSpPr>
            <p:cNvPr id="150" name=""/>
            <p:cNvSpPr/>
            <p:nvPr/>
          </p:nvSpPr>
          <p:spPr>
            <a:xfrm>
              <a:off x="4603680" y="428004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86560" y="4317840"/>
              <a:ext cx="4953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663300"/>
                  </a:solidFill>
                  <a:latin typeface="Times New Roman"/>
                </a:rPr>
                <a:t>-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0:17:36Z</dcterms:created>
  <dc:creator>Type your name here</dc:creator>
  <dc:description/>
  <dc:language>en-US</dc:language>
  <cp:lastModifiedBy>Plano ISD</cp:lastModifiedBy>
  <cp:lastPrinted>2001-10-10T11:38:18Z</cp:lastPrinted>
  <dcterms:modified xsi:type="dcterms:W3CDTF">2004-08-19T16:02:03Z</dcterms:modified>
  <cp:revision>91</cp:revision>
  <dc:subject/>
  <dc:title>ECOLOGY STUDY GUIDE</dc:title>
</cp:coreProperties>
</file>